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C3C-226E-4FEF-B4D7-3EC17002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A2B-B417-4B30-B5A7-20EFF494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D9D-3D5C-4885-9825-46F9EC25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175-339D-4CC2-8AC5-0D24B119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41E-BFCB-4C96-8A54-E58624E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8B4-5DEC-4C14-8974-2E484CC5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B83-0244-4805-8C3B-C1169099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6BD-8D2C-499A-B70D-0120CDF6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692-ED7B-420A-A5CE-1AB3882A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66C-8210-4E42-BA07-08F7BF3A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A14-673B-4BC5-AAC2-ADB77AEB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3E8-8E8A-4C9B-8086-72C66B46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9E12-DD45-4AE8-BA33-754619BAE2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008160" y="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 ASSOCIATION  &amp; 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573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POLICE                        SCOTTISH  POLICE  50TH                POLICE  75TH                    RETIRED  POLICE          SCOTTISH  PRISON  SERVICE      SCOTTISH  RAILWAY  STAFF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Scottish Prison Service"/>
          <p:cNvPicPr/>
          <p:nvPr/>
        </p:nvPicPr>
        <p:blipFill>
          <a:blip r:embed="rId1"/>
          <a:stretch/>
        </p:blipFill>
        <p:spPr>
          <a:xfrm>
            <a:off x="6392880" y="54936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Railway Staff Assoc For Scotland"/>
          <p:cNvPicPr/>
          <p:nvPr/>
        </p:nvPicPr>
        <p:blipFill>
          <a:blip r:embed="rId2"/>
          <a:stretch/>
        </p:blipFill>
        <p:spPr>
          <a:xfrm>
            <a:off x="8048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SRIBA"/>
          <p:cNvPicPr/>
          <p:nvPr/>
        </p:nvPicPr>
        <p:blipFill>
          <a:blip r:embed="rId3"/>
          <a:stretch/>
        </p:blipFill>
        <p:spPr>
          <a:xfrm>
            <a:off x="415800" y="1916280"/>
            <a:ext cx="1084320" cy="116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Scottish Young Bowlers"/>
          <p:cNvPicPr/>
          <p:nvPr/>
        </p:nvPicPr>
        <p:blipFill>
          <a:blip r:embed="rId4"/>
          <a:stretch/>
        </p:blipFill>
        <p:spPr>
          <a:xfrm>
            <a:off x="2073240" y="2133720"/>
            <a:ext cx="96048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Retired Police Assoc"/>
          <p:cNvPicPr/>
          <p:nvPr/>
        </p:nvPicPr>
        <p:blipFill>
          <a:blip r:embed="rId5"/>
          <a:stretch/>
        </p:blipFill>
        <p:spPr>
          <a:xfrm>
            <a:off x="4952880" y="54936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Scottish Police Assoc 75th"/>
          <p:cNvPicPr/>
          <p:nvPr/>
        </p:nvPicPr>
        <p:blipFill>
          <a:blip r:embed="rId6"/>
          <a:stretch/>
        </p:blipFill>
        <p:spPr>
          <a:xfrm>
            <a:off x="3657600" y="54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Scottish Police Assoc 50th"/>
          <p:cNvPicPr/>
          <p:nvPr/>
        </p:nvPicPr>
        <p:blipFill>
          <a:blip r:embed="rId7"/>
          <a:stretch/>
        </p:blipFill>
        <p:spPr>
          <a:xfrm>
            <a:off x="2000160" y="404640"/>
            <a:ext cx="139068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.S.R.I.B.A.                     SCOTTISH  YOUNG  BOWLERS                 S.Y.B.  25TH                                   CHAS                           S.A.B.B. WORLD  BOWLS               SCOTTISH  CHEM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Scottish Police Assoc 2"/>
          <p:cNvPicPr/>
          <p:nvPr/>
        </p:nvPicPr>
        <p:blipFill>
          <a:blip r:embed="rId8"/>
          <a:stretch/>
        </p:blipFill>
        <p:spPr>
          <a:xfrm>
            <a:off x="344520" y="47628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HAS.jpg"/>
          <p:cNvPicPr/>
          <p:nvPr/>
        </p:nvPicPr>
        <p:blipFill>
          <a:blip r:embed="rId9"/>
          <a:stretch/>
        </p:blipFill>
        <p:spPr>
          <a:xfrm>
            <a:off x="5024520" y="2071800"/>
            <a:ext cx="1143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Blind Bowlers World.jpg"/>
          <p:cNvPicPr/>
          <p:nvPr/>
        </p:nvPicPr>
        <p:blipFill>
          <a:blip r:embed="rId10"/>
          <a:stretch/>
        </p:blipFill>
        <p:spPr>
          <a:xfrm>
            <a:off x="6453360" y="2071800"/>
            <a:ext cx="1012680" cy="100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Scottish Young Bowlers 25th.jpg"/>
          <p:cNvPicPr/>
          <p:nvPr/>
        </p:nvPicPr>
        <p:blipFill>
          <a:blip r:embed="rId11"/>
          <a:stretch/>
        </p:blipFill>
        <p:spPr>
          <a:xfrm>
            <a:off x="3595680" y="2000160"/>
            <a:ext cx="1058760" cy="108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cottish Chemists Assoc.jpg"/>
          <p:cNvPicPr/>
          <p:nvPr/>
        </p:nvPicPr>
        <p:blipFill>
          <a:blip r:embed="rId12"/>
          <a:stretch/>
        </p:blipFill>
        <p:spPr>
          <a:xfrm>
            <a:off x="8121600" y="1773360"/>
            <a:ext cx="1135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1:25:13Z</dcterms:created>
  <dc:creator>HP authorized customer</dc:creator>
  <dc:description/>
  <dc:language>en-US</dc:language>
  <cp:lastModifiedBy>John</cp:lastModifiedBy>
  <dcterms:modified xsi:type="dcterms:W3CDTF">2010-12-09T20:20:42Z</dcterms:modified>
  <cp:revision>8</cp:revision>
  <dc:subject/>
  <dc:title>Slide 1</dc:title>
</cp:coreProperties>
</file>